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1C5-BF04-49EB-91DE-CE607309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DEA-5203-4A86-AED6-FBEF0274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8FA-267A-4E1D-8ABB-4B38D24A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B69-DF70-489E-9B64-0B0B6BE5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3FA-A9FB-4173-80F7-F06CD2DB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7E7-E004-4CD4-8FBF-6405A62E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D5B-9CF3-42C5-BF62-352BE51E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5BD-4C4C-4E5B-8434-D117B8E1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270-4428-4CB6-BD4F-1C3D54BE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0C3-AED5-4B90-A2F7-FAE63745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6FA-6991-4873-8D5A-D17122F1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75C-F869-47E5-8694-146BE078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851E-4A38-44B4-A2A3-B50FB9873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571500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y Question: How does light travel and move and help you s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y Answer: Light travels in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ay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or in a straight beam. To see an objects, there must be light. Light ray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flec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ff of an object, and into your eyes. You can see things that are smoother better because light reflects off of smooth things better than rough things. Try putting a pencil in water. See how the pencil looks bent? This is actually light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fractin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When light refracts, it changes direction because it has traveled from one medium to another. Light doesn’t always travel in rays.  Sometimes light can bend when it hits a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cav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or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vex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rface.   Concave is when light is curved inward, like the inside of a bowl. Convex is when light is curved outward, like the outside of a b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Table Lamp"/>
          <p:cNvPicPr/>
          <p:nvPr/>
        </p:nvPicPr>
        <p:blipFill>
          <a:blip r:embed="rId1"/>
          <a:stretch/>
        </p:blipFill>
        <p:spPr>
          <a:xfrm>
            <a:off x="2514600" y="4648320"/>
            <a:ext cx="190980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3880" y="7772400"/>
            <a:ext cx="419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from this lamp travels in rays. The ray  of light reflect off of objects, and into your eyes, allowing you to see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3080" y="2133360"/>
            <a:ext cx="300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800600"/>
            <a:ext cx="556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lossa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nve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curved outward like the outer side of a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ncav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Curved inward like the inside of a d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a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a narrow beam of light or other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flec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When rays of light are reflected, they bounce off a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frac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When a light ray is refracted, it changes in direction because it has traveled from one medium from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: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iana Cor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30099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7:23:45Z</dcterms:created>
  <dc:creator>Judith M Paradis</dc:creator>
  <dc:description/>
  <dc:language>en-US</dc:language>
  <cp:lastModifiedBy>Judith M Paradis</cp:lastModifiedBy>
  <dcterms:modified xsi:type="dcterms:W3CDTF">2007-12-20T20:18:48Z</dcterms:modified>
  <cp:revision>7</cp:revision>
  <dc:subject/>
  <dc:title>Slide 1</dc:title>
</cp:coreProperties>
</file>